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5860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简易方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826920" y="206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实际问题与方程 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82692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矩形 555013"/>
          <p:cNvSpPr/>
          <p:nvPr/>
        </p:nvSpPr>
        <p:spPr>
          <a:xfrm>
            <a:off x="1024200" y="4888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55014"/>
          <p:cNvSpPr/>
          <p:nvPr/>
        </p:nvSpPr>
        <p:spPr>
          <a:xfrm>
            <a:off x="3616560" y="472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找出等量关系列方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24000" y="3915360"/>
            <a:ext cx="72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看看这位同学列出的方程，能说说你的想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11280" y="4365720"/>
            <a:ext cx="6559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24000" y="4482000"/>
            <a:ext cx="92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监控：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他列的方程可以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求出陆地的面积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怎么求不出来呢？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预设：因为有一个条件“地球的表面积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亿平方千米”没用上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追问：这个条件不用就不行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900000" y="2060640"/>
            <a:ext cx="6769080" cy="1627200"/>
            <a:chOff x="900000" y="2060640"/>
            <a:chExt cx="6769080" cy="1627200"/>
          </a:xfrm>
        </p:grpSpPr>
        <p:sp>
          <p:nvSpPr>
            <p:cNvPr id="138" name="Rectangle 5"/>
            <p:cNvSpPr/>
            <p:nvPr/>
          </p:nvSpPr>
          <p:spPr>
            <a:xfrm>
              <a:off x="900000" y="2104920"/>
              <a:ext cx="6769080" cy="1582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919080" y="2060640"/>
              <a:ext cx="5536080" cy="1235520"/>
              <a:chOff x="919080" y="2060640"/>
              <a:chExt cx="5536080" cy="1235520"/>
            </a:xfrm>
          </p:grpSpPr>
          <p:sp>
            <p:nvSpPr>
              <p:cNvPr id="140" name="Rectangle 2"/>
              <p:cNvSpPr/>
              <p:nvPr/>
            </p:nvSpPr>
            <p:spPr>
              <a:xfrm>
                <a:off x="919080" y="2060640"/>
                <a:ext cx="230508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预设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5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11"/>
              <p:cNvSpPr/>
              <p:nvPr/>
            </p:nvSpPr>
            <p:spPr>
              <a:xfrm>
                <a:off x="3182400" y="2104920"/>
                <a:ext cx="3272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海洋面积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÷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陆地面积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.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解：设陆地的面积为</a:t>
                </a:r>
                <a:r>
                  <a:rPr b="0" i="1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亿平方千米，那么海洋面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为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.4</a:t>
                </a:r>
                <a:r>
                  <a:rPr b="0" i="1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亿平方千米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.4</a:t>
                </a:r>
                <a:r>
                  <a:rPr b="0" i="1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÷</a:t>
                </a:r>
                <a:r>
                  <a:rPr b="0" i="1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.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解方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179280" y="1916280"/>
            <a:ext cx="8353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能根据我们以前学习的知识求出方程的解吗？自己试一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171440" y="24325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提示：能转化成我们会解的方程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154160" y="2865240"/>
            <a:ext cx="52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监控：针对预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运用了什么运算定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581120" y="3672360"/>
            <a:ext cx="77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针对预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转化成预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方程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971640" y="4078080"/>
            <a:ext cx="89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怎样检验这道题做得对不对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引导学生进行检验，把所得结果代入原题，同时满足这两个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陆地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海洋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亿，海洋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陆地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只有同时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满足这两个条件就说明这道题做对了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961920" y="5970600"/>
            <a:ext cx="85694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果请你选择一个方程，你会选择哪个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感受怎样列方程最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而且方便求解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293840" y="3269160"/>
            <a:ext cx="77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针对预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谁会解这个方程？能转化成我们会解的方程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24000" y="4196520"/>
            <a:ext cx="61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己读题，有不明白的地方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74640" y="46051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方程如何解决这个问题？自己试着做一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567300" descr="23"/>
          <p:cNvPicPr/>
          <p:nvPr/>
        </p:nvPicPr>
        <p:blipFill>
          <a:blip r:embed="rId2"/>
          <a:stretch/>
        </p:blipFill>
        <p:spPr>
          <a:xfrm>
            <a:off x="1116000" y="1628640"/>
            <a:ext cx="63342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11280" y="3972240"/>
            <a:ext cx="70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解：设小明今年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，那么妈妈今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还可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答：小明今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妈妈今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33520" y="6287040"/>
            <a:ext cx="80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能读懂他的想法吗？从题目中他找到了怎样的等量关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568324" descr="23"/>
          <p:cNvPicPr/>
          <p:nvPr/>
        </p:nvPicPr>
        <p:blipFill>
          <a:blip r:embed="rId2"/>
          <a:stretch/>
        </p:blipFill>
        <p:spPr>
          <a:xfrm>
            <a:off x="1116000" y="1628640"/>
            <a:ext cx="63342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总结质疑 反思评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39640" y="2924280"/>
            <a:ext cx="752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177920" y="309420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有什么疑问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755640" y="2637000"/>
            <a:ext cx="752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今天这节课你有哪些收获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227664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“做一做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403280" y="4653000"/>
            <a:ext cx="626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图中你得到了哪些数学信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2195640" y="5086440"/>
            <a:ext cx="626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球表面积指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创设情境 引入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187720" y="5499000"/>
            <a:ext cx="684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有什么想要提醒大家的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403280" y="605052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评价：他关注到了“分别”两个字，这道题有两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557062" descr="22"/>
          <p:cNvPicPr/>
          <p:nvPr/>
        </p:nvPicPr>
        <p:blipFill>
          <a:blip r:embed="rId2"/>
          <a:stretch/>
        </p:blipFill>
        <p:spPr>
          <a:xfrm>
            <a:off x="2124000" y="2060640"/>
            <a:ext cx="4761000" cy="2519280"/>
          </a:xfrm>
          <a:prstGeom prst="rect">
            <a:avLst/>
          </a:prstGeom>
          <a:ln w="0">
            <a:noFill/>
          </a:ln>
        </p:spPr>
      </p:pic>
      <p:sp>
        <p:nvSpPr>
          <p:cNvPr id="49" name="矩形 557063"/>
          <p:cNvSpPr/>
          <p:nvPr/>
        </p:nvSpPr>
        <p:spPr>
          <a:xfrm>
            <a:off x="755640" y="1484280"/>
            <a:ext cx="55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球的表面积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亿平方千米，其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海洋面积约为陆地面积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57065"/>
          <p:cNvSpPr/>
          <p:nvPr/>
        </p:nvSpPr>
        <p:spPr>
          <a:xfrm>
            <a:off x="1024200" y="4888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57066"/>
          <p:cNvSpPr/>
          <p:nvPr/>
        </p:nvSpPr>
        <p:spPr>
          <a:xfrm>
            <a:off x="1239840" y="5103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57067"/>
          <p:cNvSpPr/>
          <p:nvPr/>
        </p:nvSpPr>
        <p:spPr>
          <a:xfrm>
            <a:off x="1455840" y="5319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57068"/>
          <p:cNvSpPr/>
          <p:nvPr/>
        </p:nvSpPr>
        <p:spPr>
          <a:xfrm>
            <a:off x="1671840" y="5535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826920" y="5265720"/>
            <a:ext cx="7921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想一想，列方程解决问题时，思考顺序可以分为哪几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324000" y="1413000"/>
            <a:ext cx="51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明确问题 提出要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971640" y="6093000"/>
            <a:ext cx="79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77920" y="57830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用列方程的方法解决这个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558086" descr="22"/>
          <p:cNvPicPr/>
          <p:nvPr/>
        </p:nvPicPr>
        <p:blipFill>
          <a:blip r:embed="rId2"/>
          <a:stretch/>
        </p:blipFill>
        <p:spPr>
          <a:xfrm>
            <a:off x="2475000" y="2709720"/>
            <a:ext cx="4761000" cy="2519640"/>
          </a:xfrm>
          <a:prstGeom prst="rect">
            <a:avLst/>
          </a:prstGeom>
          <a:ln w="0">
            <a:noFill/>
          </a:ln>
        </p:spPr>
      </p:pic>
      <p:sp>
        <p:nvSpPr>
          <p:cNvPr id="60" name="矩形 558087"/>
          <p:cNvSpPr/>
          <p:nvPr/>
        </p:nvSpPr>
        <p:spPr>
          <a:xfrm>
            <a:off x="1106640" y="2133720"/>
            <a:ext cx="55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球的表面积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亿平方千米，其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海洋面积约为陆地面积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58089"/>
          <p:cNvSpPr/>
          <p:nvPr/>
        </p:nvSpPr>
        <p:spPr>
          <a:xfrm>
            <a:off x="1024200" y="4888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58090"/>
          <p:cNvSpPr/>
          <p:nvPr/>
        </p:nvSpPr>
        <p:spPr>
          <a:xfrm>
            <a:off x="1239840" y="5103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58091"/>
          <p:cNvSpPr/>
          <p:nvPr/>
        </p:nvSpPr>
        <p:spPr>
          <a:xfrm>
            <a:off x="1455840" y="5319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找出等量关系列方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50920" y="1917720"/>
            <a:ext cx="6769080" cy="1584360"/>
            <a:chOff x="250920" y="1917720"/>
            <a:chExt cx="6769080" cy="1584360"/>
          </a:xfrm>
        </p:grpSpPr>
        <p:sp>
          <p:nvSpPr>
            <p:cNvPr id="67" name="Rectangle 4"/>
            <p:cNvSpPr/>
            <p:nvPr/>
          </p:nvSpPr>
          <p:spPr>
            <a:xfrm>
              <a:off x="250920" y="1917720"/>
              <a:ext cx="6769080" cy="1584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2755800" y="1922400"/>
              <a:ext cx="31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陆地面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海洋面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地球表面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：设陆地面积为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亿平方千米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,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那么海洋面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为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亿平方千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"/>
            <p:cNvSpPr/>
            <p:nvPr/>
          </p:nvSpPr>
          <p:spPr>
            <a:xfrm>
              <a:off x="324000" y="1917720"/>
              <a:ext cx="2305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预设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50920" y="3645000"/>
            <a:ext cx="6769080" cy="1584360"/>
            <a:chOff x="250920" y="3645000"/>
            <a:chExt cx="6769080" cy="1584360"/>
          </a:xfrm>
        </p:grpSpPr>
        <p:sp>
          <p:nvSpPr>
            <p:cNvPr id="71" name="Rectangle 2"/>
            <p:cNvSpPr/>
            <p:nvPr/>
          </p:nvSpPr>
          <p:spPr>
            <a:xfrm>
              <a:off x="250920" y="3645000"/>
              <a:ext cx="6769080" cy="1584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2703240" y="3645000"/>
              <a:ext cx="286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海洋面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陆地面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地球表面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：设海洋面积为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亿平方千米，那么海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面积为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亿平方千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"/>
            <p:cNvSpPr/>
            <p:nvPr/>
          </p:nvSpPr>
          <p:spPr>
            <a:xfrm>
              <a:off x="395280" y="3645000"/>
              <a:ext cx="2305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预设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47680" y="5421240"/>
            <a:ext cx="6769080" cy="1320840"/>
            <a:chOff x="247680" y="5421240"/>
            <a:chExt cx="6769080" cy="1320840"/>
          </a:xfrm>
        </p:grpSpPr>
        <p:sp>
          <p:nvSpPr>
            <p:cNvPr id="75" name="Rectangle 3"/>
            <p:cNvSpPr/>
            <p:nvPr/>
          </p:nvSpPr>
          <p:spPr>
            <a:xfrm>
              <a:off x="247680" y="5443560"/>
              <a:ext cx="6769080" cy="1298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"/>
            <p:cNvSpPr/>
            <p:nvPr/>
          </p:nvSpPr>
          <p:spPr>
            <a:xfrm>
              <a:off x="247680" y="5421240"/>
              <a:ext cx="2305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 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预设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2"/>
            <p:cNvSpPr/>
            <p:nvPr/>
          </p:nvSpPr>
          <p:spPr>
            <a:xfrm>
              <a:off x="2679480" y="5437080"/>
              <a:ext cx="244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陆地面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海洋面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地球表面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：设陆地的面积为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亿平方千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.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找出等量关系列方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39840" y="4681440"/>
            <a:ext cx="6769080" cy="1627200"/>
            <a:chOff x="339840" y="4681440"/>
            <a:chExt cx="6769080" cy="1627200"/>
          </a:xfrm>
        </p:grpSpPr>
        <p:sp>
          <p:nvSpPr>
            <p:cNvPr id="81" name="Rectangle 5"/>
            <p:cNvSpPr/>
            <p:nvPr/>
          </p:nvSpPr>
          <p:spPr>
            <a:xfrm>
              <a:off x="339840" y="4725720"/>
              <a:ext cx="6769080" cy="1582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358920" y="4681440"/>
              <a:ext cx="5536080" cy="1235520"/>
              <a:chOff x="358920" y="4681440"/>
              <a:chExt cx="5536080" cy="1235520"/>
            </a:xfrm>
          </p:grpSpPr>
          <p:sp>
            <p:nvSpPr>
              <p:cNvPr id="83" name="Rectangle 2"/>
              <p:cNvSpPr/>
              <p:nvPr/>
            </p:nvSpPr>
            <p:spPr>
              <a:xfrm>
                <a:off x="358920" y="4681440"/>
                <a:ext cx="230508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预设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5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11"/>
              <p:cNvSpPr/>
              <p:nvPr/>
            </p:nvSpPr>
            <p:spPr>
              <a:xfrm>
                <a:off x="2622240" y="4725720"/>
                <a:ext cx="3272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海洋面积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÷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陆地面积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.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解：设陆地的面积为</a:t>
                </a:r>
                <a:r>
                  <a:rPr b="0" i="1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亿平方千米，那么海洋面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为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.4</a:t>
                </a:r>
                <a:r>
                  <a:rPr b="0" i="1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亿平方千米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.4</a:t>
                </a:r>
                <a:r>
                  <a:rPr b="0" i="1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÷</a:t>
                </a:r>
                <a:r>
                  <a:rPr b="0" i="1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.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324000" y="2492280"/>
            <a:ext cx="6769080" cy="1728720"/>
            <a:chOff x="324000" y="2492280"/>
            <a:chExt cx="6769080" cy="1728720"/>
          </a:xfrm>
        </p:grpSpPr>
        <p:sp>
          <p:nvSpPr>
            <p:cNvPr id="86" name="Rectangle 3"/>
            <p:cNvSpPr/>
            <p:nvPr/>
          </p:nvSpPr>
          <p:spPr>
            <a:xfrm>
              <a:off x="324000" y="2492280"/>
              <a:ext cx="6769080" cy="1728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180160" y="2516040"/>
              <a:ext cx="399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海洋面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陆地面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：设陆地面积为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亿平方千米，那么海洋面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为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亿平方千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.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.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"/>
            <p:cNvSpPr/>
            <p:nvPr/>
          </p:nvSpPr>
          <p:spPr>
            <a:xfrm>
              <a:off x="397080" y="2492280"/>
              <a:ext cx="2305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预设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找出等量关系列方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0920" y="4450320"/>
            <a:ext cx="76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从题目中分析出了什么样的等量关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009160" y="484668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哪个条件提示你找到了这样的等量关系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50960" y="5291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怎样想到设陆地面积为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741240" y="5715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 2.4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什么意思？你是根据哪个条件表示出海洋面积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2560" y="2422440"/>
            <a:ext cx="6769080" cy="1584360"/>
            <a:chOff x="682560" y="2422440"/>
            <a:chExt cx="6769080" cy="1584360"/>
          </a:xfrm>
        </p:grpSpPr>
        <p:sp>
          <p:nvSpPr>
            <p:cNvPr id="96" name="Rectangle 4"/>
            <p:cNvSpPr/>
            <p:nvPr/>
          </p:nvSpPr>
          <p:spPr>
            <a:xfrm>
              <a:off x="682560" y="2422440"/>
              <a:ext cx="6769080" cy="1584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7"/>
            <p:cNvSpPr/>
            <p:nvPr/>
          </p:nvSpPr>
          <p:spPr>
            <a:xfrm>
              <a:off x="3187440" y="2427120"/>
              <a:ext cx="31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陆地面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海洋面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地球表面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：设陆地面积为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亿平方千米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,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那么海洋面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为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亿平方千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"/>
            <p:cNvSpPr/>
            <p:nvPr/>
          </p:nvSpPr>
          <p:spPr>
            <a:xfrm>
              <a:off x="755640" y="2422440"/>
              <a:ext cx="2305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预设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27"/>
          <p:cNvSpPr/>
          <p:nvPr/>
        </p:nvSpPr>
        <p:spPr>
          <a:xfrm>
            <a:off x="6372360" y="1341360"/>
            <a:ext cx="2520720" cy="792360"/>
          </a:xfrm>
          <a:prstGeom prst="wedgeRoundRectCallout">
            <a:avLst>
              <a:gd name="adj1" fmla="val -52583"/>
              <a:gd name="adj2" fmla="val 8266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研究根据和的等量关系列方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找出等量关系列方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68360" y="3789360"/>
            <a:ext cx="777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是根据什么数量关系列出的方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-496800" y="4951440"/>
            <a:ext cx="8562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同一个等量关系，为什么列出了两个不同的方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90720" y="4273560"/>
            <a:ext cx="73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怎样想到设海洋面积为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981000" y="46623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什么意思？你是根据哪个条件表示出陆地面积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98560" y="2060640"/>
            <a:ext cx="6769080" cy="1584360"/>
            <a:chOff x="898560" y="2060640"/>
            <a:chExt cx="6769080" cy="1584360"/>
          </a:xfrm>
        </p:grpSpPr>
        <p:sp>
          <p:nvSpPr>
            <p:cNvPr id="107" name="Rectangle 2"/>
            <p:cNvSpPr/>
            <p:nvPr/>
          </p:nvSpPr>
          <p:spPr>
            <a:xfrm>
              <a:off x="898560" y="2060640"/>
              <a:ext cx="6769080" cy="1584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3365280" y="2060640"/>
              <a:ext cx="286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海洋面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陆地面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地球表面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：设海洋面积为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亿平方千米，那么海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面积为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亿平方千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"/>
            <p:cNvSpPr/>
            <p:nvPr/>
          </p:nvSpPr>
          <p:spPr>
            <a:xfrm>
              <a:off x="1042920" y="2060640"/>
              <a:ext cx="2305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预设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562188"/>
          <p:cNvSpPr/>
          <p:nvPr/>
        </p:nvSpPr>
        <p:spPr>
          <a:xfrm>
            <a:off x="1024200" y="4888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找出等量关系列方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11280" y="4365720"/>
            <a:ext cx="6559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41200" y="3693960"/>
            <a:ext cx="84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大家来评价一下这种方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08000" y="5314680"/>
            <a:ext cx="95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：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求不出解，因为有一个条件“海洋面积约为陆地面积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倍”没用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28600" y="4211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监控：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他列的方程可以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求出陆地的面积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怎么求不出来呢？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563207"/>
          <p:cNvSpPr/>
          <p:nvPr/>
        </p:nvSpPr>
        <p:spPr>
          <a:xfrm>
            <a:off x="1081440" y="57769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追问：这个条件不用就不行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98560" y="2060640"/>
            <a:ext cx="6769080" cy="1320840"/>
            <a:chOff x="898560" y="2060640"/>
            <a:chExt cx="6769080" cy="1320840"/>
          </a:xfrm>
        </p:grpSpPr>
        <p:sp>
          <p:nvSpPr>
            <p:cNvPr id="119" name="Rectangle 3"/>
            <p:cNvSpPr/>
            <p:nvPr/>
          </p:nvSpPr>
          <p:spPr>
            <a:xfrm>
              <a:off x="898560" y="2082960"/>
              <a:ext cx="6769080" cy="1298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"/>
            <p:cNvSpPr/>
            <p:nvPr/>
          </p:nvSpPr>
          <p:spPr>
            <a:xfrm>
              <a:off x="898560" y="2060640"/>
              <a:ext cx="2305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 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预设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3330360" y="2076480"/>
              <a:ext cx="244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陆地面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海洋面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地球表面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：设陆地的面积为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亿平方千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.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找出等量关系列方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79280" y="1917720"/>
            <a:ext cx="230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50920" y="4457880"/>
            <a:ext cx="8067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你是怎么想的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追问：他这样列方程可以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50920" y="5174640"/>
            <a:ext cx="82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结：看来，既可以根据陆地与海洋面积的和的关系列方程，也可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根据陆地与海洋面积的倍数关系列方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55640" y="2347920"/>
            <a:ext cx="6769080" cy="1728720"/>
            <a:chOff x="755640" y="2347920"/>
            <a:chExt cx="6769080" cy="1728720"/>
          </a:xfrm>
        </p:grpSpPr>
        <p:sp>
          <p:nvSpPr>
            <p:cNvPr id="128" name="Rectangle 3"/>
            <p:cNvSpPr/>
            <p:nvPr/>
          </p:nvSpPr>
          <p:spPr>
            <a:xfrm>
              <a:off x="755640" y="2347920"/>
              <a:ext cx="6769080" cy="1728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2611800" y="2371680"/>
              <a:ext cx="399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海洋面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陆地面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：设陆地面积为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亿平方千米，那么海洋面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为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亿平方千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.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4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.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"/>
            <p:cNvSpPr/>
            <p:nvPr/>
          </p:nvSpPr>
          <p:spPr>
            <a:xfrm>
              <a:off x="828720" y="2347920"/>
              <a:ext cx="2305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预设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4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AutoShape 27"/>
          <p:cNvSpPr/>
          <p:nvPr/>
        </p:nvSpPr>
        <p:spPr>
          <a:xfrm>
            <a:off x="6372360" y="1268280"/>
            <a:ext cx="2520720" cy="792360"/>
          </a:xfrm>
          <a:prstGeom prst="wedgeRoundRectCallout">
            <a:avLst>
              <a:gd name="adj1" fmla="val -52583"/>
              <a:gd name="adj2" fmla="val 8266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研究根据倍数的等量关系列方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3T03:22:0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